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33F-E3F1-4D5A-93A6-FDAE64A1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6EE-EB7A-4593-8528-D7B9381A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2A9-FCA5-4DE8-A4DF-66AD73BB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5E9-9700-49ED-8264-9D79B014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FAC6-5783-4BAE-B0BE-F3AC1643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AD01-86C2-4AEA-92D3-D2CFCAD8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3095-2318-4557-873B-6F57A0F3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BCAC-DFD4-443F-B07F-2DB693EA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7FC6-E9A7-4219-918C-C3E8CEB1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0C92-6E9B-42FC-A1AB-E1A6A182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B83B-B2EE-431A-A960-146D79E3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5B1-A1BB-4F50-BD09-EB7AD7BB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91B8-DDA7-4807-8405-6497B9D7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DCA4-20DB-42E3-8EB5-F2CF77D7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829B-1FD8-44AE-AFAE-72AF4642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8B42-47F1-42C6-BE3E-2052C543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FB48-3DAB-4D44-9D06-C54AFA41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DEC-088B-432E-9383-8D92706B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562-E543-4BB6-9588-538BCCF0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A02-78F9-41D0-9FFB-D88F1705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84A-CDAF-4EE6-8DD4-41460C6D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C41-D8EB-4324-8791-37E27295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78A-20CB-46BE-81FF-C9082BD8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B53-323D-4B33-A247-2C56EAF2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622E-47A8-4C0F-A3EA-0A15CAED6C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1026-5E4D-4867-9BF4-EC43F31170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ProjectsCE114/ce114_creating_a_learning_environment_revised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cdevelopment.wikispaces.com/Unit+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e9ce8"/>
                </a:solidFill>
                <a:latin typeface="Arial"/>
              </a:rPr>
              <a:t>CE114 Unit 3: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  Physical and Motor Development of the Infan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 free to chat with each other.  We will begin short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arly Identification and Interven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early identification of developmental delays or special needs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an Early Childhood Professionals play a role in identification and interven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toddler.jpg"/>
          <p:cNvPicPr/>
          <p:nvPr/>
        </p:nvPicPr>
        <p:blipFill>
          <a:blip r:embed="rId1"/>
          <a:stretch/>
        </p:blipFill>
        <p:spPr>
          <a:xfrm>
            <a:off x="2895480" y="4038480"/>
            <a:ext cx="33339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ekly Remind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r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Web Resources (2 slidesh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quality responses to BOTH discussion questio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support your response with material from the text if possible!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espond to at least 2-3 of your classmates’ posts per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 seminar OR complete Option 2 for sem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Project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the Learning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it 3 Proj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alysis of the Learning Environ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PowerPoint presentation "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Creating a Learning Enviro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, along with information from our unit readings, describe various aspects of the learning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1- to 2-page paper analyzing what constitutes an ideal learning environment, including the role that both nurture and nature pl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5- to 7-slide PowerPoint (not including the title slide and reference slide) analyzing what constitutes an ideal learning environment, including the role that both nurture and nature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s are posted within the course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, J.K., &amp; Puckett, M.P., (2009)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Young Child: Development from prebirth through age eight.  Fourth Edi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Upper Saddle River, NJ:  Pearson Education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night’s Qu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Kids go where there is excitement. They stay where there is love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g Zig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C:\Documents and Settings\Owner\Local Settings\Temporary Internet Files\Content.IE5\4UD0ES2O\MPj04424980000[1].jpg"/>
          <p:cNvPicPr/>
          <p:nvPr/>
        </p:nvPicPr>
        <p:blipFill>
          <a:blip r:embed="rId1"/>
          <a:stretch/>
        </p:blipFill>
        <p:spPr>
          <a:xfrm>
            <a:off x="304920" y="4038480"/>
            <a:ext cx="1779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urse Check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5" name="Picture 4" descr="checklist.jpg"/>
          <p:cNvPicPr/>
          <p:nvPr/>
        </p:nvPicPr>
        <p:blipFill>
          <a:blip r:embed="rId1"/>
          <a:stretch/>
        </p:blipFill>
        <p:spPr>
          <a:xfrm>
            <a:off x="838080" y="1905120"/>
            <a:ext cx="68202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ture vs. Nurture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9999"/>
                </a:solidFill>
                <a:latin typeface="Arial"/>
              </a:rPr>
              <a:t>The age-long debate about how and why people do the things they d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Na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and development are controlled primarily by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urationist Perspective (Ges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9ce8"/>
                </a:solidFill>
                <a:latin typeface="Arial"/>
              </a:rPr>
              <a:t>Nur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and development can be influenced largely by a person’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ist Perspective (Bandura, Skinner, Wat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al Interactionist Perspective (Piag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Perspective (Sameroff &amp; Chand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Perspective (Gottli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ckett &amp; Black, p. 113-1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tterns in Growth and Develop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phalocaudal and proximodistal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growth and development proceed from the head downward and from the central axis of the body outwa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children development follows a similar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ictable patte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sequence of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  or sensitive peri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growth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do ha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 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growth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ckett &amp; Black, p. 115-1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velopmental Milestones for Infa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Growth and development during the first year are both dramatic and significant” </a:t>
            </a: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(Puckett &amp; Black, p. 1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rth to 3 mon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– 6 mon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– 9 mon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 – 12 mon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Please refer to Table 5.4 on p.135 of our book to view important milestones for these age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creased mobility = Increased Psychosocial Develop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first infant’s reactions are 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reflex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As they gain control over more of their body their reactions become more 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purposefu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es this affect how they interact with others and with objects in their environme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ckett &amp; Black, p. 136-1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jor factors that influence physical and motor developm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Nature (heredity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rth w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llness/medical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e9ce8"/>
                </a:solidFill>
                <a:latin typeface="Arial"/>
              </a:rPr>
              <a:t>Nurture (environment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al environment (room to explo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oeconomic circums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ltural dif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ckett &amp; Black, p. 137-1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eld Trip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 to class Wiki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ecdevelopment.wikispaces.com/Unit+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 out assigned link(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urn to the seminar when prompted prepared to share with classm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Documents and Settings\Owner\Local Settings\Temporary Internet Files\Content.IE5\EU11PMYS\MPj04423370000[1].jpg"/>
          <p:cNvPicPr/>
          <p:nvPr/>
        </p:nvPicPr>
        <p:blipFill>
          <a:blip r:embed="rId2"/>
          <a:stretch/>
        </p:blipFill>
        <p:spPr>
          <a:xfrm>
            <a:off x="5257800" y="152280"/>
            <a:ext cx="23004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1:16:01Z</dcterms:created>
  <dc:creator> </dc:creator>
  <dc:description/>
  <dc:language>en-US</dc:language>
  <cp:lastModifiedBy>Joyce Jones</cp:lastModifiedBy>
  <dcterms:modified xsi:type="dcterms:W3CDTF">2010-12-16T16:47:42Z</dcterms:modified>
  <cp:revision>14</cp:revision>
  <dc:subject/>
  <dc:title>CE114 Unit 3:  Physical and Motor Development of the Infant</dc:title>
</cp:coreProperties>
</file>